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351-D4EA-4D85-B77C-457287E1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EAC-B542-495D-8744-62FDE0FA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C0883-4C0C-487F-AC2F-539EBEB5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25D86-1DC9-43DE-B2D4-CC12F55B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43219-6B55-4B2F-838D-4FAEE8F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7A9D0-00EB-4C8F-8357-C75F57C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7FF5A-FBE2-4642-A530-BF8ADC7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894A8-1207-4DFB-A2DF-E6E9467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A0D10-77FA-4EE0-943D-27A9E33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67B57-B169-4F36-848A-9EFE1746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F389D-D4CA-4A4A-A8AD-B3C3B0C4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13DC4-F7C7-415E-9644-7B70875C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921-6149-4A38-809A-666105E8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39D86-6409-4E32-ACC0-44D6826D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04A0B-ED83-4772-A836-482170F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01051-20F0-41DF-AF86-69C391B0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6D931-4CC6-4C45-B42C-70179E5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7FC9-6AE7-4B0F-8B92-D62924FC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0DFF-5246-45A1-92E6-816ACBA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86687-9F93-45C1-B55C-A91475ED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39ED-F112-4E61-8643-FB53909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02975-BF04-4ADC-AAC4-41660348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B66C-4B32-48D0-B481-068A5104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9DB-36E9-4328-95DE-6C28F03F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4267B-2D8B-4A4C-AC0E-222045E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E69F8-5516-43CD-8069-0CD19A98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6D0E9-FF4D-41A8-8A35-175D3B4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AE06-F508-4032-8C99-A0106A1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23513-3550-4D36-A24B-654403B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E0474-050D-44C3-82E2-3E203BDB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2AFF-36BE-471A-8085-C1D5404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539F6-3CC2-442C-AF81-B8FBB53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767F-B775-4BF7-B4FF-4B906FC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A29F3-A23D-45F9-9DB6-A673B55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9E31-590F-46A5-AFC8-50F11653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BA2D-6C3E-4D2B-AD56-76FD187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8EB40-2BDC-42E7-A523-28F73BC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DCA13-DEFE-4860-B743-5BB946AD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E25BB-6881-4B3F-AEB3-27493496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5D307-0718-45B1-B421-BA1EE1F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481A9-32E5-482B-A52D-092C2AD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8352D-E42B-473A-9442-B9F4641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6430E-A6AE-439F-B765-EAEAEEF2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B4C98-0C07-4B89-8732-C710550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E7796-ABF2-4853-BF98-EE1DE8B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6E5-B4E0-4BAC-911F-AB2A799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F4B4C-0EBE-4058-87A8-AAD6FCC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1E008-50AD-4A60-BBED-E924771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A1E3-D8C8-4FFA-9F3E-A75C561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DDF7E-C79F-4A14-B81B-79C42360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FA71-B9DE-4418-9624-13323AA5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63DD6-6BE8-4C52-A204-574AC32F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EBAD1-349A-47E5-B92D-8D280AF1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E4852-ED5D-4FC9-A419-6EE8B65E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D50DC-D6B1-4B47-86BB-D3A391E4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2E4D6-ADD1-471C-AF52-745EC7CB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3C1-7441-4998-93BF-F78AA85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7B09E-A15F-4E53-8D55-007660E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56DDB-E73F-431D-A094-649BA2C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009DF-9F23-47CA-BF84-978A900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CB88C-464B-4721-9346-E847484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2B755-213A-4A26-9198-62B25DF8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532DD-19E4-4ED0-89FE-94DC6B1A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81F14-5316-4970-8844-A6750B89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F5A8C-A34A-4D26-A2A8-2F85E1CA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649D0-B613-438F-AD3D-AFDC87D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D53FF-101D-45BE-9728-A86A233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7FA5-5669-465A-A7C7-7143B1D4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E7D67-9D38-4DEE-900D-342F610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F16FA-AC3B-4EF8-AB62-C390B0B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E9035-A57D-4B0F-9E2E-5D3E021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751B3-647D-40BA-9E13-E479174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D2D3C-A544-45A2-B24E-8741124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E1FE3-A13E-42C9-A7A2-6E15AB5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5E486-5E31-4FC8-9587-5442E58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C2869-5C18-4DB5-B8E2-FBA0AA2E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79A7D-2EDA-4D3F-8974-EB051AC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40649-D4B1-4DD2-A96D-4C30E1C7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FB8-A799-411E-AD29-8496F4C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0B511-E2E3-4336-90B5-CDF1DB03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FF723-30FD-4256-A190-F1E069C1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910EB-E397-4939-942E-A131365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AA6E0-AB4E-4156-B97C-BE7CAF4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EE6C6-DCB0-4DCD-9324-87E8988C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69458-6DA7-4AD3-B8A5-5623FE7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DA0C5-AE47-4911-AE96-2F431F4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9A237-88B4-4077-86DE-B9B5DEE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0FE11-7FB8-4C08-AF2A-DD23527E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17218-FA5B-4091-81CF-E81D87A0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E3B-CE5B-4741-8F00-A1FA79A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9154D-54F5-4DF6-80EE-2139B1E2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7710E-27AE-4546-A7C1-3C3F1906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AA32D-1B18-407E-B777-23F180A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3D05C-2395-4E80-8C5B-3073A68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42E2E-012D-4CF1-B0B4-F236452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7660F-4074-43AC-8970-09876791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C30A3-04C7-4989-8969-53FBD24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68592-9F4B-4216-9C59-54780DD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97EDD-D206-436A-A5E8-FB9CBF2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9E84F-FD48-4901-A5FE-603E5DA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9CF1-DFF3-48CA-92B4-AB24E36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F1708-2CA1-47CF-9910-3D9C4799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2E1E2-14C3-48AA-A9A7-219F56A1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95BFF-0F1F-4A0B-81DF-39498E8A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7DB54-6657-4027-9CBE-FA2E3A19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119E1-15B9-43FD-8D26-6C4E6F8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C19F1-FFFA-4FA4-AA7A-AE553A5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ABD4B-E6D8-47EE-8B6C-89670C86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22EAC-E436-41FC-A1EC-0A9D694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F7940-BF73-418E-8818-00919DC1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25CD0-8F55-488D-A8D5-FC942AA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254-A46C-4F59-8348-23BE0A3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49C1-90D7-45B4-9DED-256F604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30D91-D537-4784-83CD-C8B1BBA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BCD1F-5A78-451C-BDF2-85908DF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2827D-798E-4743-87D9-849EDF38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88522-DC3E-4CC1-8752-626D2ED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0654C-3158-4968-9FD0-BF337B28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28745-A9B0-472C-903D-866C8EBF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E8A93-0110-4FFA-ADAE-BE47E21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2FCFA-36B7-45FD-9EE5-B5E170F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FE5D6-77CD-44FC-958F-1ECED1B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E5E6F-904A-4A43-8F58-504ADE3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1B2-717C-4C56-9B66-8D50407E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92F3C-F6A3-4D2B-BE62-641DE722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88DBE-1168-463B-A690-B415C65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AFBE7-6721-4744-9F9B-22CED98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5BAE4-F01C-4558-AA7E-BC5D68C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3868B-FA3F-45F7-B1C5-67C7BCB2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B3B68-1708-47C2-9721-8BE18C1F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8F6EF-D16F-4109-932A-4BA78747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26E18-3407-4CA9-9941-027CCBCD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3EEFE-EF8D-4C70-8BC1-6AA0E79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7CE94-8A60-4A5B-A8FF-F974E90D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8A5-B5A1-48C2-9B69-B80D936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B21C3-6DC6-4DC0-A47B-3CCC797E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287DC-C9FC-4EFD-8AF5-66FC5AF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22068-6F74-4603-8F0E-94364ED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DCD6A-08B2-44C9-A252-A21CA8E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C5E392-C4FD-427B-B586-80B3EDF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5BBB6-770E-41D0-ABFD-43AB134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360F0-82A8-4191-BAEC-9A3D943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1B741-72DE-4EAC-8296-D0906BB2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9811D-16E9-45E0-B50B-E58E862D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0DF06-43FA-4F5E-980C-A32786B4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F2A-71D0-4B3E-A714-ADED112A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E113D-8B6C-4A53-B974-06ADA762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4E428-5D93-41EC-9E8E-D5D687C5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71496-AB10-4084-8686-A249C84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118D6-BF6C-424E-B226-D52051F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9B6C2-01C2-48AC-9099-315F438D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E9F64-1A41-4096-A357-9594DB8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EA6C4-FF5E-4410-B818-CB226E0E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D0348-5F8D-4712-AD5B-369BB5A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FFC3D-55E3-43C1-8112-946026D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8E52B-39E2-4919-8C92-1A6388D6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5710-F910-4AC5-A611-4D6A8000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F947D-BA46-4157-B1B1-F4E18A10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42C26-B8BB-4B0F-8FEF-DBDB75CE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DD2DE6-095F-4590-94F0-E62169B4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DB394-DD6B-4D7B-9871-CFFE33B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1FD35-1532-4989-B13B-6DC1A6AF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17C61-B0CF-48FA-907D-8E549D1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EB251-650A-45FD-BF8B-2FE1725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B1375-854B-4300-ADCA-6B2AF54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8E391-3B09-4567-920A-CC7FFAB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429120-4D34-403E-82BB-9C6E45E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4875-822F-446C-BA2B-50D11A1B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8402E-6AA3-4772-BC41-6A1C391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07C935-75E6-4733-8564-7EE1ACE5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BB410-605A-477F-ACAE-6B3341AC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4D5F-5F63-4AE1-8D60-81D63C4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F160-09A1-47A2-93B4-4E25020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978B-FCC9-4D3F-89FC-BFC4F05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FD5B-0BE5-427D-B4A1-85CC86D8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5F6-4AB3-4A49-B518-260150C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7361-8A03-456D-83C6-A062AB3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4457-1CEC-4EBB-A138-111BFAC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C50F-75E8-46E3-83CB-95F4F6F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0108-1742-4105-86F2-86E5500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19BB-170D-4D06-9A1B-A2F59CE9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D1D0-2C96-4CA7-9947-B3AEFAF1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2DE0-A43E-4B25-8CC9-E673B6CD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ACFA-D8D8-4D41-ABCB-39404D5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10F1-31C2-4DA5-85E0-36B78DD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76AD-7F78-462D-AA0E-84BB501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618-F34B-4B3D-A567-53476E0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49DE-B2A4-4175-A0E5-01FA0D4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19E2-2D91-4396-A863-1567B604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EF2F-7A0A-4210-BB6B-0A256E5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16F4-0ABB-4AEE-AD82-C796017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4055-44FA-450C-9B05-0BB9CE7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57B9-F4C9-42CE-ADB7-FD5DC6C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141C-B794-4E24-A65F-14DC1AE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4AF0-38A8-404B-9A1B-D3740764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1475-3180-4ED5-8689-978A9781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1C9C-EC09-4CEE-9C26-4443D578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7A7-12F6-4927-9B05-F723C74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D8F6-88E7-4661-94CB-AF4C6DC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68FB-A1BD-411A-BA2E-EFC1D359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A840-8507-4DEA-862E-DBA85BD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BD41-E4A1-4F41-B72C-62F8AC55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2AD5-CF97-4875-8715-D4EB005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60A4-48EA-4AEE-BF35-881A237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C919F-514C-4596-8F20-C19E004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A981F-9F4D-4A26-91AE-5300BE9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3498-B8C8-4B41-BA59-F3D67A1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2465-8BD8-45C2-AD7B-29BA7A0C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0FA-005A-41B6-99B9-CE1FC48A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3242-A754-44CC-A20F-8E9466E6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AD7A-DE56-47E4-B59C-7E7FAA53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5427-D69E-4CB0-A5E8-CA714CC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E090-6F90-4E66-8935-791D547D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30A3-D022-4DFF-A4CD-E09DC976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CC8E-F6FD-4FD0-B787-95B8129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841B3-E24B-4146-A0D4-CBFDB797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DFF2-795A-46D4-9829-5050C67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5F96-3740-43FB-A1B0-E6BAB28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A3B8-8070-41D3-8548-B608440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147-1DA7-46A9-8BA3-91B8747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BF33-8F14-4A82-96E9-DFFD0E3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3663-C197-48BE-AB6B-ADB2B9FE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1D2E-B221-4DC5-AE42-0EBA280C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1FE88-68DC-4587-97FE-0DDCD575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7042-25AE-49B5-86F7-817495B0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4394-00A4-4A91-9560-DD3D85E5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2A69-B4DF-4276-9F69-89C7D7B4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F6FB-AF57-4F8D-A1AF-BD79124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CD29-B330-4B22-84B2-26DD1F7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60D8-6C60-4F43-A549-6649C14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E84-A8A4-4260-984B-559A412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30EE-D7D8-45F6-8491-A852B06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A0AD-DB90-4E68-AD9C-A1233E8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6BC4-DEA1-41AD-AE94-A4C83037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FE63-2E1A-4C61-ACAC-FCE845CD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E8AB-AAD7-46D4-A519-70DDC6D7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0510-44A2-4505-83A3-3389BBF0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8A50-D756-4214-845B-186DA5C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5410-2AF7-4773-8356-38CFC4F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DB29D-1F8B-4ECB-8C9C-9423ADB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9D24-9A98-40F5-826D-BB4F04D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5AF-EBC4-4415-B57C-3A2FA04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E4387-85E0-4E53-AA74-C0CAFF7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218E-C496-46F4-818C-FF3866E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4C4C0-32BB-4885-8877-75116469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8D90C-736C-4972-9C5F-14BD6F1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CC5A-A0C4-4DB1-B449-DB9A21E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03866-4BE9-4F21-A986-34D6A554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B60D3-01E9-46B9-9214-EFA15FCA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330EF-3636-4690-B532-14B83FF1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A57E5-D1B1-494D-B213-57BEA80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C384-D343-4CB1-971D-63B10396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38B9-7C83-4AC9-B508-372C3D709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D04-45FE-4A1A-A2F5-3E170D5FF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474-B602-4DF6-A574-25C193B38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5EA-C29C-4859-A0A1-2D45A5D90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4CE2-ACA0-47F4-81EA-90347C23A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E757-CF7C-4BE9-A45A-364C55806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8768-9125-4D64-BFED-75F355EC0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E1A2-B4B5-4C19-BC04-2205B01D40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836B-788C-440B-9C32-CDEAD9BB6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3D7-7DC0-441A-9BDD-CA9AA8B55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BC6-64F4-4BA0-A71A-E30D9464A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5A2-13DB-49F8-9437-6728C7B81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CC2-94F0-4C91-9092-CDA0C3BF2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6F4-38D9-490E-BF9C-387C74C08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C7FF-472C-4494-8617-6A6E4CCBD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F08C-5FF6-4B4E-AFA0-1DA3D34DB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84E9-CA94-49E1-8C47-C992B04C9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9E2-A0B0-4DC3-94C1-F723F6584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66B-FE6C-49EA-A880-0FB0559E9F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0AF-C47A-47CB-9697-017C858C2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B4B1-7815-4B3E-A7D7-99008EDE9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669E-C3B5-4B7B-B8D1-E20DC3664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34A7-BA34-4A6B-80C6-6782D0049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5F4-B10B-4CF0-B2A8-82FB230D1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AEA-8DCC-4A3C-8AFF-271636CD8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C94A-B814-4A1E-A490-F7BCB6A6B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C25-AB95-453E-A0E1-352C414896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DEA-F066-4E4C-9F9D-8180EF142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D01-678A-401A-B3F6-F33663A16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F52-1037-4BB7-BA52-817BB56D1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045-968E-4C65-81B0-F9896F47A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C65A-0031-44CB-9B82-4C79E514FE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A8DA-CC5F-4D8E-8576-B9CBDCBF1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782C-E4C6-4CC4-8FC0-4F27F0F75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5AD-C9DA-4A61-94BA-A0177E385F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3BE-4EEE-479F-BDF8-A3527E9D5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5264-2081-4D7C-A806-46EFFE6DA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B62-10B0-4691-9AFC-1BB61156B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4A8F-1317-4CA6-872F-99D3DF856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8AAE-E5E5-46F5-B131-64C2BFC87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5400" y="2529000"/>
            <a:ext cx="8953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162000" y="1281240"/>
            <a:ext cx="8820000" cy="4295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1" name="图片 1" descr=""/>
          <p:cNvPicPr/>
          <p:nvPr/>
        </p:nvPicPr>
        <p:blipFill>
          <a:blip r:embed="rId1"/>
          <a:stretch/>
        </p:blipFill>
        <p:spPr>
          <a:xfrm>
            <a:off x="318960" y="1938240"/>
            <a:ext cx="8504280" cy="29815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2"/>
          <a:stretch/>
        </p:blipFill>
        <p:spPr>
          <a:xfrm>
            <a:off x="539640" y="19749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4"/>
          <a:stretch/>
        </p:blipFill>
        <p:spPr>
          <a:xfrm>
            <a:off x="611280" y="36878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7" name="图片 1" descr=""/>
          <p:cNvPicPr/>
          <p:nvPr/>
        </p:nvPicPr>
        <p:blipFill>
          <a:blip r:embed="rId1"/>
          <a:stretch/>
        </p:blipFill>
        <p:spPr>
          <a:xfrm>
            <a:off x="361800" y="833400"/>
            <a:ext cx="8420400" cy="519120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14338" descr=""/>
          <p:cNvPicPr/>
          <p:nvPr/>
        </p:nvPicPr>
        <p:blipFill>
          <a:blip r:embed="rId2"/>
          <a:stretch/>
        </p:blipFill>
        <p:spPr>
          <a:xfrm>
            <a:off x="1057320" y="1728720"/>
            <a:ext cx="7475400" cy="4446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4339" descr=""/>
          <p:cNvPicPr/>
          <p:nvPr/>
        </p:nvPicPr>
        <p:blipFill>
          <a:blip r:embed="rId3"/>
          <a:stretch/>
        </p:blipFill>
        <p:spPr>
          <a:xfrm>
            <a:off x="1042920" y="2693880"/>
            <a:ext cx="7475760" cy="44460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4340" descr=""/>
          <p:cNvPicPr/>
          <p:nvPr/>
        </p:nvPicPr>
        <p:blipFill>
          <a:blip r:embed="rId4"/>
          <a:stretch/>
        </p:blipFill>
        <p:spPr>
          <a:xfrm>
            <a:off x="998640" y="3645000"/>
            <a:ext cx="7475400" cy="44424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4341" descr=""/>
          <p:cNvPicPr/>
          <p:nvPr/>
        </p:nvPicPr>
        <p:blipFill>
          <a:blip r:embed="rId5"/>
          <a:stretch/>
        </p:blipFill>
        <p:spPr>
          <a:xfrm>
            <a:off x="1028880" y="4595760"/>
            <a:ext cx="7475400" cy="44460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14342" descr=""/>
          <p:cNvPicPr/>
          <p:nvPr/>
        </p:nvPicPr>
        <p:blipFill>
          <a:blip r:embed="rId6"/>
          <a:stretch/>
        </p:blipFill>
        <p:spPr>
          <a:xfrm>
            <a:off x="1057320" y="5545080"/>
            <a:ext cx="74754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95400" y="1038240"/>
            <a:ext cx="8953200" cy="4781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755640" y="3630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755640" y="404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75564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755640" y="5329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462480" y="1393920"/>
            <a:ext cx="2219040" cy="3618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519120" y="1974960"/>
            <a:ext cx="8104320" cy="3493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332000" y="50706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427640" y="3529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7524720" y="3544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403280" y="3544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427640" y="50706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77840" y="981000"/>
            <a:ext cx="8790120" cy="44085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615960" y="5716440"/>
            <a:ext cx="6886440" cy="819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9000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82692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900000" y="45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900000" y="5734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76200" y="1886040"/>
            <a:ext cx="8389800" cy="3085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01448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04292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042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1042920" y="45086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219240" y="1547640"/>
            <a:ext cx="8705520" cy="3762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898560" y="28926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97164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95400" y="2209680"/>
            <a:ext cx="8953200" cy="243864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8195" descr=""/>
          <p:cNvPicPr/>
          <p:nvPr/>
        </p:nvPicPr>
        <p:blipFill>
          <a:blip r:embed="rId2"/>
          <a:stretch/>
        </p:blipFill>
        <p:spPr>
          <a:xfrm>
            <a:off x="125280" y="3086280"/>
            <a:ext cx="883944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57120" y="2162160"/>
            <a:ext cx="8427960" cy="2533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1042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97164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97164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957240" y="1380960"/>
            <a:ext cx="7229520" cy="409608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10242" descr=""/>
          <p:cNvPicPr/>
          <p:nvPr/>
        </p:nvPicPr>
        <p:blipFill>
          <a:blip r:embed="rId2"/>
          <a:stretch/>
        </p:blipFill>
        <p:spPr>
          <a:xfrm>
            <a:off x="2181240" y="2162160"/>
            <a:ext cx="1022400" cy="4446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10243" descr=""/>
          <p:cNvPicPr/>
          <p:nvPr/>
        </p:nvPicPr>
        <p:blipFill>
          <a:blip r:embed="rId3"/>
          <a:stretch/>
        </p:blipFill>
        <p:spPr>
          <a:xfrm>
            <a:off x="4270320" y="3400560"/>
            <a:ext cx="1670040" cy="44424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10244" descr=""/>
          <p:cNvPicPr/>
          <p:nvPr/>
        </p:nvPicPr>
        <p:blipFill>
          <a:blip r:embed="rId4"/>
          <a:stretch/>
        </p:blipFill>
        <p:spPr>
          <a:xfrm>
            <a:off x="2743200" y="4624560"/>
            <a:ext cx="10224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1833480" y="2238480"/>
            <a:ext cx="5477040" cy="238104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11266" descr=""/>
          <p:cNvPicPr/>
          <p:nvPr/>
        </p:nvPicPr>
        <p:blipFill>
          <a:blip r:embed="rId2"/>
          <a:stretch/>
        </p:blipFill>
        <p:spPr>
          <a:xfrm>
            <a:off x="4384800" y="2593800"/>
            <a:ext cx="1137960" cy="4446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11267" descr=""/>
          <p:cNvPicPr/>
          <p:nvPr/>
        </p:nvPicPr>
        <p:blipFill>
          <a:blip r:embed="rId3"/>
          <a:stretch/>
        </p:blipFill>
        <p:spPr>
          <a:xfrm>
            <a:off x="3952800" y="386064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5:06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